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10.png" ContentType="image/png"/>
  <Override PartName="/ppt/media/image6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22DE-0DBE-4C53-B5AE-509C819FFA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8C18-68EA-4BF0-8F4D-12D36841505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- Meeting Notes (19/04/2013 10:35) 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p modelling of N and P respo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alysis of the data we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assess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itability with a temporal dimen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7502-B2FE-4010-92BF-02520F996ED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97633-5D55-4E0E-9DD2-5C233C22B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40EDE-CDCC-4047-BC4D-09298AB36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BED77-3CAA-4EE9-BBE9-D13BF736B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DDBA8-3336-43A6-9B56-15548AE3C0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DC18-7920-434E-A1FC-55FBDC71D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BE4A8-9611-4334-BDBA-0D5587BB6E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A188B-EE21-4C9B-9721-0924C4C307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A4167-07EF-4ACF-B4FA-DDB934C0A3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F407B-9BAE-4E13-A9AC-E5BDFFD6D1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0A788-C2A1-4D6A-8BB4-C29CD1D47F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6F5D-A8CC-4D40-87B3-43D0D435D3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F33C8-9437-4DDA-962C-FF32F409C1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5224C-6A4F-4EC9-BE84-E3DEF8C36C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4101D-F246-4CE8-AF02-E44F101D79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3B46F-687B-41F9-AE4B-BB17EAFD4D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7EE93-C35A-4D13-B8D0-D70DDC66E8C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6BB18-AC10-41AB-AE73-CAE5A4CC40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F169A-D6D8-466F-9DF3-D14555C3778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77659-8A84-4730-934C-FF8C05BFBB4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CD14A-A135-4E1C-928B-9EEF44AEC17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457EA-B621-439F-8598-A44A76565E9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D5735-9A10-4FEF-B22C-4FE3EA22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C7ABB-BAF7-4FE6-B5E0-843DEB7F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DC783-B0A1-4ED4-AD5D-429074C7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51244-8611-4D42-8FF1-AE81BC61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8618A-759A-425D-BF92-B26E179E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2E948-2C5B-49F4-B920-807790A5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F1945-0F2C-4707-A959-17B6B9E5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D6572-960A-4BCF-AB2C-11BF52F1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A1D91-A8E8-46B0-88C3-A0000D7F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BC342-606F-4E58-B069-3E4D0E571FD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B2F4A-43E2-48D0-8E72-95F4E596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4EA71-6575-4CC1-A8E4-A1ED3B66E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34F88-78A5-4DF5-B6F1-DDDD5213D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B35B1-BCDC-4902-B2D3-95066FC9F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35461-55B7-4DAD-A9CA-88F53A144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AE82-DC52-4C55-AC91-797743F95FA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C2F8-B876-40F6-AAE8-57E34DA7912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5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6CF6-203E-4C38-9F7E-61E7F34E249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520" y="1523520"/>
            <a:ext cx="8534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0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50"/>
                </a:solidFill>
                <a:latin typeface="Calibri"/>
              </a:rPr>
              <a:t>From skeptism to realism: unlocking productivity potential under small holder farmers in Babati, Northern Tanz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00200" y="3809880"/>
            <a:ext cx="5562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Kihara J., Kizito F., Lyimo S.D., Yangole L., Songoyani 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2" descr="C:\Users\user\Desktop\6719132809_d02a581715_s.jpg"/>
          <p:cNvPicPr/>
          <p:nvPr/>
        </p:nvPicPr>
        <p:blipFill>
          <a:blip r:embed="rId2"/>
          <a:stretch/>
        </p:blipFill>
        <p:spPr>
          <a:xfrm>
            <a:off x="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onclusion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3716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 perceptions of soil condition relate well with observed produ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and for soil and water conservation is hi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s obtain yield improvements that pay off fertilizer and associated added costs of the improved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ivity of some components such as beans still very 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ilure to use specific components of IP is explained and suggestions made, including mechanization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51920" y="1905120"/>
            <a:ext cx="899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use of fertilizers and poor agr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ivity low below potential for th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ze pigeonpea intercropping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 crop performance with good agronomic practices under farmer conditions and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 farmer perceptions of production environments and Improved practice of maize/pigeonpea p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archer controlled trials of fertilizer respo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ilored agronomic surveys with farmers using fertilizers in different seasons (3 target practic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71212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d pract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71212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rmers prac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71212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 (like IP but no fertiliz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s participatory technology assessments at villag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5181480" y="41911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250" name="Slide Number Placeholder 4"/>
          <p:cNvSpPr/>
          <p:nvPr/>
        </p:nvSpPr>
        <p:spPr>
          <a:xfrm>
            <a:off x="8610480" y="6400800"/>
            <a:ext cx="609840" cy="396720"/>
          </a:xfrm>
          <a:prstGeom prst="bracketPair">
            <a:avLst>
              <a:gd name="adj" fmla="val 1794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4DAC-122B-485C-AB62-2800625C9FF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3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3926"/>
                </a:solidFill>
                <a:latin typeface="Calibri"/>
              </a:rPr>
              <a:t>Where we started. Where are we go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2"/>
          <a:stretch/>
        </p:blipFill>
        <p:spPr>
          <a:xfrm>
            <a:off x="152280" y="685800"/>
            <a:ext cx="5527800" cy="4014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3"/>
          <a:stretch/>
        </p:blipFill>
        <p:spPr>
          <a:xfrm>
            <a:off x="5257800" y="1143000"/>
            <a:ext cx="3692520" cy="31654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6225120" y="1066680"/>
            <a:ext cx="188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for ~60 t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armer x seas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Straight Arrow Connector 4"/>
          <p:cNvCxnSpPr/>
          <p:nvPr/>
        </p:nvCxnSpPr>
        <p:spPr>
          <a:xfrm flipV="1">
            <a:off x="762120" y="2590200"/>
            <a:ext cx="3582000" cy="889560"/>
          </a:xfrm>
          <a:prstGeom prst="straightConnector1">
            <a:avLst/>
          </a:prstGeom>
          <a:ln w="7308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256" name="TextBox 7"/>
          <p:cNvSpPr/>
          <p:nvPr/>
        </p:nvSpPr>
        <p:spPr>
          <a:xfrm>
            <a:off x="380880" y="4876920"/>
            <a:ext cx="434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priate plant d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rtile so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ximity to homest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quent manure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ttomland fiel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urce: Kihara et al 20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eft Brace 9"/>
          <p:cNvSpPr/>
          <p:nvPr/>
        </p:nvSpPr>
        <p:spPr>
          <a:xfrm>
            <a:off x="1981080" y="5299200"/>
            <a:ext cx="152640" cy="129996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 h 1299960"/>
              <a:gd name="textAreaBottom" fmla="*/ 1296000 h 129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6"/>
                  <a:pt x="10800" y="211"/>
                </a:cubicBezTo>
                <a:lnTo>
                  <a:pt x="10800" y="10589"/>
                </a:lnTo>
                <a:cubicBezTo>
                  <a:pt x="10800" y="10695"/>
                  <a:pt x="5400" y="10800"/>
                  <a:pt x="0" y="10800"/>
                </a:cubicBezTo>
                <a:cubicBezTo>
                  <a:pt x="5400" y="10800"/>
                  <a:pt x="10800" y="10906"/>
                  <a:pt x="10800" y="11011"/>
                </a:cubicBezTo>
                <a:lnTo>
                  <a:pt x="10800" y="21389"/>
                </a:lnTo>
                <a:cubicBezTo>
                  <a:pt x="10800" y="2149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ight Brace 10"/>
          <p:cNvSpPr/>
          <p:nvPr/>
        </p:nvSpPr>
        <p:spPr>
          <a:xfrm>
            <a:off x="4419720" y="5257800"/>
            <a:ext cx="304560" cy="134136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1341360"/>
              <a:gd name="textAreaBottom" fmla="*/ 1333440 h 134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5"/>
                  <a:pt x="10800" y="409"/>
                </a:cubicBezTo>
                <a:lnTo>
                  <a:pt x="10800" y="10391"/>
                </a:lnTo>
                <a:cubicBezTo>
                  <a:pt x="10800" y="10596"/>
                  <a:pt x="16200" y="10800"/>
                  <a:pt x="21600" y="10800"/>
                </a:cubicBezTo>
                <a:cubicBezTo>
                  <a:pt x="16200" y="10800"/>
                  <a:pt x="10800" y="11005"/>
                  <a:pt x="10800" y="11209"/>
                </a:cubicBezTo>
                <a:lnTo>
                  <a:pt x="10800" y="21191"/>
                </a:lnTo>
                <a:cubicBezTo>
                  <a:pt x="10800" y="21396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5"/>
          <p:cNvSpPr/>
          <p:nvPr/>
        </p:nvSpPr>
        <p:spPr>
          <a:xfrm>
            <a:off x="3472560" y="107784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7 farmer fie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urvey 20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8" descr=""/>
          <p:cNvPicPr/>
          <p:nvPr/>
        </p:nvPicPr>
        <p:blipFill>
          <a:blip r:embed="rId1"/>
          <a:stretch/>
        </p:blipFill>
        <p:spPr>
          <a:xfrm>
            <a:off x="2773440" y="2925720"/>
            <a:ext cx="6294240" cy="3780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"/>
          <p:cNvPicPr/>
          <p:nvPr/>
        </p:nvPicPr>
        <p:blipFill>
          <a:blip r:embed="rId2"/>
          <a:stretch/>
        </p:blipFill>
        <p:spPr>
          <a:xfrm>
            <a:off x="139680" y="1143000"/>
            <a:ext cx="5651640" cy="33987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13"/>
          <p:cNvSpPr/>
          <p:nvPr/>
        </p:nvSpPr>
        <p:spPr>
          <a:xfrm>
            <a:off x="2182680" y="1446120"/>
            <a:ext cx="310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ields from 76 farmer fields in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3"/>
          <a:stretch/>
        </p:blipFill>
        <p:spPr>
          <a:xfrm>
            <a:off x="55440" y="1206360"/>
            <a:ext cx="5542200" cy="3335400"/>
          </a:xfrm>
          <a:prstGeom prst="rect">
            <a:avLst/>
          </a:prstGeom>
          <a:ln w="0">
            <a:noFill/>
          </a:ln>
        </p:spPr>
      </p:pic>
      <p:sp>
        <p:nvSpPr>
          <p:cNvPr id="264" name="TextBox 13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3926"/>
                </a:solidFill>
                <a:latin typeface="Calibri"/>
              </a:rPr>
              <a:t>Where we started. Where are we going?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Straight Arrow Connector 6"/>
          <p:cNvCxnSpPr/>
          <p:nvPr/>
        </p:nvCxnSpPr>
        <p:spPr>
          <a:xfrm flipV="1">
            <a:off x="1294920" y="2513880"/>
            <a:ext cx="3582360" cy="889560"/>
          </a:xfrm>
          <a:prstGeom prst="straightConnector1">
            <a:avLst/>
          </a:prstGeom>
          <a:ln w="7308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266" name="Straight Arrow Connector 9"/>
          <p:cNvCxnSpPr/>
          <p:nvPr/>
        </p:nvCxnSpPr>
        <p:spPr>
          <a:xfrm flipV="1">
            <a:off x="3733920" y="3962160"/>
            <a:ext cx="4496400" cy="1753200"/>
          </a:xfrm>
          <a:prstGeom prst="straightConnector1">
            <a:avLst/>
          </a:prstGeom>
          <a:ln w="7308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267" name="TextBox 14"/>
          <p:cNvSpPr/>
          <p:nvPr/>
        </p:nvSpPr>
        <p:spPr>
          <a:xfrm>
            <a:off x="1015920" y="1274760"/>
            <a:ext cx="9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6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6" descr=""/>
          <p:cNvPicPr/>
          <p:nvPr/>
        </p:nvPicPr>
        <p:blipFill>
          <a:blip r:embed="rId4"/>
          <a:stretch/>
        </p:blipFill>
        <p:spPr>
          <a:xfrm>
            <a:off x="5867280" y="1041480"/>
            <a:ext cx="2900520" cy="2468520"/>
          </a:xfrm>
          <a:prstGeom prst="rect">
            <a:avLst/>
          </a:prstGeom>
          <a:ln w="0">
            <a:noFill/>
          </a:ln>
        </p:spPr>
      </p:pic>
      <p:sp>
        <p:nvSpPr>
          <p:cNvPr id="269" name="TextBox 17"/>
          <p:cNvSpPr/>
          <p:nvPr/>
        </p:nvSpPr>
        <p:spPr>
          <a:xfrm>
            <a:off x="5791320" y="351000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3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8"/>
          <p:cNvSpPr/>
          <p:nvPr/>
        </p:nvSpPr>
        <p:spPr>
          <a:xfrm>
            <a:off x="6435720" y="950760"/>
            <a:ext cx="955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4 average of 27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9" descr=""/>
          <p:cNvPicPr/>
          <p:nvPr/>
        </p:nvPicPr>
        <p:blipFill>
          <a:blip r:embed="rId5"/>
          <a:stretch/>
        </p:blipFill>
        <p:spPr>
          <a:xfrm>
            <a:off x="0" y="4643280"/>
            <a:ext cx="2898720" cy="1630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ertilizer use by farme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57200" y="1839960"/>
          <a:ext cx="7924680" cy="3341520"/>
        </p:xfrm>
        <a:graphic>
          <a:graphicData uri="http://schemas.openxmlformats.org/drawingml/2006/table">
            <a:tbl>
              <a:tblPr/>
              <a:tblGrid>
                <a:gridCol w="1828800"/>
                <a:gridCol w="1447920"/>
                <a:gridCol w="1371600"/>
                <a:gridCol w="1523880"/>
                <a:gridCol w="175248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ll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pons 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ken 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pons 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ken 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03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bi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48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74" name=""/>
          <p:cNvSpPr txBox="1"/>
          <p:nvPr/>
        </p:nvSpPr>
        <p:spPr>
          <a:xfrm>
            <a:off x="419040" y="5105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high numbers refused to use fertilizers in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and for fertilizers is rapidly rising among far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61920" y="1805040"/>
            <a:ext cx="9082080" cy="4452840"/>
          </a:xfrm>
          <a:prstGeom prst="rect">
            <a:avLst/>
          </a:prstGeom>
          <a:ln w="0">
            <a:noFill/>
          </a:ln>
        </p:spPr>
      </p:pic>
      <p:sp>
        <p:nvSpPr>
          <p:cNvPr id="276" name="TextBox 13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3926"/>
                </a:solidFill>
                <a:latin typeface="Calibri"/>
              </a:rPr>
              <a:t>Yields with fertilizers across vill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272880" y="1447920"/>
            <a:ext cx="8642520" cy="51480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3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3926"/>
                </a:solidFill>
                <a:latin typeface="Calibri"/>
              </a:rPr>
              <a:t>Yield change due to improved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Landscapes and farmer awarenes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625720" y="1600200"/>
            <a:ext cx="3289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s perceive erosion and indicate willingness to address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04920" y="1890720"/>
            <a:ext cx="5321160" cy="3747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1:33:49Z</dcterms:created>
  <dc:creator>LeBorgne, Ewen (ILRI)</dc:creator>
  <dc:description/>
  <dc:language>en-US</dc:language>
  <cp:lastModifiedBy>Kihara Job</cp:lastModifiedBy>
  <cp:lastPrinted>2011-10-06T11:45:23Z</cp:lastPrinted>
  <dcterms:modified xsi:type="dcterms:W3CDTF">2016-06-30T08:25:04Z</dcterms:modified>
  <cp:revision>151</cp:revision>
  <dc:subject/>
  <dc:title>PowerPoint Presentation</dc:title>
</cp:coreProperties>
</file>